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003-BCF7-4349-B956-3F54F8A1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E0A-470D-4D02-829B-C69739F1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318-BF99-4D0F-B098-210CD8E3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8FE-FFA5-4BAA-8FEC-AE4680C8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BBB2-0D57-4430-91C8-A05C0D98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70D-3B8D-4FCA-B5DD-AD97E74C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273-1343-46B6-A164-A55236B9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912-3AE8-4362-A27D-3E041DD2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9EC-A776-4A8E-B00A-FCE233DC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214-F86F-4712-BE72-749B6821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85C-B47E-408C-B4CA-B9EEF9E1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15F-849A-4FB9-AB0B-52B1D91D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0213-00E5-4572-97D0-4B78F70EE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THE SPACE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Broadway"/>
              </a:rPr>
              <a:t>BY: ANGELICA MAGUIRE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ILLATION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Text Placeholder 2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0866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5 FACTS ABOUT THE SUN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K:\2010-2011\SCIENCE\Picture1.gif"/>
          <p:cNvPicPr/>
          <p:nvPr/>
        </p:nvPicPr>
        <p:blipFill>
          <a:blip r:embed="rId1"/>
          <a:stretch/>
        </p:blipFill>
        <p:spPr>
          <a:xfrm>
            <a:off x="1600200" y="114300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THE MOON MOVE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THE MOON.jpg"/>
          <p:cNvPicPr/>
          <p:nvPr/>
        </p:nvPicPr>
        <p:blipFill>
          <a:blip r:embed="rId1"/>
          <a:stretch/>
        </p:blipFill>
        <p:spPr>
          <a:xfrm>
            <a:off x="1295280" y="1295280"/>
            <a:ext cx="61866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oadway"/>
              </a:rPr>
              <a:t>SOLAR ECLIPSE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Text Placeholder 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7820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Y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Text Placeholder 2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24816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TROIDS + COMETS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ext Placeholder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41484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ETS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Text Placeholder 2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6294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GHT YEAR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ext Placeholder 2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-SIZED STAR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Text Placeholder 2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26256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5:26:15Z</dcterms:created>
  <dc:creator>Owner</dc:creator>
  <dc:description/>
  <dc:language>en-US</dc:language>
  <cp:lastModifiedBy>Franklin Township School</cp:lastModifiedBy>
  <dcterms:modified xsi:type="dcterms:W3CDTF">2011-04-05T19:00:47Z</dcterms:modified>
  <cp:revision>2</cp:revision>
  <dc:subject/>
  <dc:title>THE SPACE!!!</dc:title>
</cp:coreProperties>
</file>